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EB9-B05D-4F0A-8CD5-3D7D7C6D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0FE-8D08-4C3F-B84B-3504C90A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71D-B296-46A9-AF60-CA22EEF2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31E-3F5E-46E2-B9FF-2B5F44CD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AACC-50D0-492F-AF09-CE577F27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0C4B-4E80-4C3F-8829-773166BD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FC68-0710-4656-A684-84322145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972D-BFAA-49AB-873C-B6CB1A01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55BB-F22A-4BFC-B614-4718CE79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9D50-0026-4875-8C20-AF667AFC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62B6-AD47-4BCF-AC25-BAAEA82A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1E6-1B6C-49FD-B349-7880012C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C436-D615-4E83-B9FF-CA3525C4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27E7-C96B-4342-88E0-7D787BF8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220C-ED63-4154-9443-11CBCED7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8815-7C23-4D86-AB65-310420A7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157C-F19C-4D5E-AFB6-DF60A72C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A4A-3450-4F93-98DA-84A4D284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E64-6BCF-45F9-9B8E-E1F547CF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3B6-D0BD-4B15-97F3-80198B78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E85-1105-4FD7-979C-5AA8EF5F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081-8A9A-47C7-AFAE-E36159B8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9A4-7CA7-41C7-B921-134C717E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495-E0B9-48F4-8F87-345725B5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C5F6-6924-4B3E-8945-D50101F6214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5C50-7C29-44C9-BCB6-C3F87F19CC0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085;&#1072;&#1095;&#1072;&#1083;&#1100;&#1085;&#1072;&#1103;%20&#1089;&#1090;&#1088;&#1072;&#1085;&#1080;&#1094;&#1072;.ppt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Население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нварь 1726 года. Акинфий Никитич Демидов подал в Бергколлегию прошение о разрешении ему искать на Алтае руды, строить заводы и рудники. Это разрешение он получил меньше чем через месяц (помогли деньги и связи). В 20 года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VI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ка на месте Барнаула было 2 деревни: Усть-барнаульская и Верх-Барнаульск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730 году Демидов перевёл 200 крепостных из Олонецкого края на строительство Барнаульского завода. Оно началось в 1739 году. А в 1744 году завод уже начал работ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745 году в Усть – Барнаульской по ревизской сказке насчитывалось 30 душ мужского пола. Всего 8 семей. Известны их фамилии – по две семьи Волгиных и Рожневых, по одной Белых, Песковых, Бочковых, Костаревых, Пятковых, Казанцевых, Кукарцевых, Рукаловых. А в 1747 году здесь проживает уже 430 жителей обоего пола. Очень скоро этот населённый пункт стал центром округа Колывано – Воскресенских зав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городе имелись светские учебные заведения, церкви, разнообразные магазины, лавки и прочие общественные учреждения. Была в городе и богодельня. Вопрос о ней стоял уже давно. Как поступать с больными, старыми и нетрудоспособными? В 1785 году командирами заводов была получена инструкция на этот счёт. В ней предлагалось частично трудоспособных определить на лёгкую работу, а совсем нетрудоспособных определить к родным, тех же, кто таковых не имеет, определить в богодель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городском уставе от 1842 года указывалось, что даже содержащиеся там по старости работные люди могут заниматься разными лёгкими работами. В 1849 году Кабинет определил срок службы работных людей в 35 лет (считая с 18 лет). А в 1852 году срок их службы был вновь сокращён уже до 30 лет. Но, несмотря на эти послабления, условия работы на заводе всё же были очень и очень тяжёлыми. Самой распространённой формой протеста был побе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61 году было отменено крепостное право, и рабочие, приписанные к заводу, вздохнули с облегчением, ожидая перемен к лучшему. Но завод нуждался в рабочей силе, и поэтому освобождение происходило не в раз. «Нижние рабочие чины»  освобождались в течение двух лет, а приписные крестьяне, в течение трё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Задач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1 урове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В 1864 году естественный прирост населения был равен 85 человек. Сколько родилось детей, если умерло 485 челове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2 урове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Решив задачу 1 уровня, найдите, сколько процентов (в обыкновенных дробях) составляет количество рождённых детей от общего количества людей, проживающих в Барнауле в 1864 году, если оно было равно 1025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80-х годах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века на Барнаульском заводе рабочие добились повышения зарплат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90-е годы движение рабочих, требующих улучшения условий работы, ещё более активизировалось. Среди мер борьбы большое значение стала приобретать стач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начале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века рост населения стал более динамичны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Задач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   1 урове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 1897 году население города составляло 29408 человек, а в 1910 – уже 46041 человек. На сколько в среднем за 1 год оно увеличивалось (округлить до целых)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2 урове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ачертите график роста населения, используя дан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1882год – 17210 человек,     1926 год – 73900 челове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1892 год – 20158 человек,    1939 год – 148200 челове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1897 год – 29408 человек,    1959 год – 323000 челове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1900 год – 30000 человек,    1970 год – 439100 челове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1909 год – 46000 человек,    1979 год – 533300 челове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1917 год – 56007 человек.    1989 год – 602200 челове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1998 год – 654500 челов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видно из задачи № 2.5 в начал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а рост населения стал более динамичн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елом, население Барнаула за 50 лет капиталистического развития увеличилось в 50 раз. В городском хозяйстве Барнаула резко обозначилось классовое расслоение (богатые – с одной стороны и почти нищие – с другой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17 году население города достигает 56 тыс. челов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мая 1917 года в Барнауле произошёл крупнейший за всю его историю пожар. Он возник на Томской улице из-за неосторожного обращения с огнём. И, благодаря сухой погоде и почти штормовому ветру, быстро распространил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езультате пожара около 11000 человек лишились крова и средств к существова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городе возникли серьёзные проблемы. Для помощи погоревшим были созданы фон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Задач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1, 2 уровн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28 р.              130 р.              221 р.         392 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к.                 56 к.                 9 к.             60 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-3)(x-4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-3)(x+4)=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+3)(x+4)=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+3) (x-4)=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2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2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2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2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пределив уравнение, корнем которого является число 2, вы узнаете, сколько денег было собрано фондом помощи детям погорельцев в мае – декабре 1917 г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ктябре 1917 года, как известно, произошла Великая Октябрьская социалистическая революция. В Барнауле первые известия о победе вооружённого восстания в Петрограде были получены лишь 27 октября. Об этом сообщил экстренный выпуск газеты «Голос труда». К победе социалистической революции в городе относились по – разному. Барнаульская городская дума 29 октября приняла контрреволюционную резолюцию. Иначе реагировали на это известные рабочие, крестьяне, солда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л создан военно–революционный комитет во главе с М. К. Цаплиным. В ночь с 6 на 7 декабря отряды ревкома, состоящие из красногвардейцев и солдат, заняли казачество, телефонную станцию. Ревком одержал полную и бескровную победу. В Барнауле установилась советская вла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годы гражданской войны город был занят колчаковцами. В Барнауле сильно активизировалось белое движение. В июне 1918 года в городе начались массовые репрессии против работников органов советской власти. Их массовые расстрелы белогвардейцы производили на Нагорном кладбище. Но 10 декабря 1919 года силы Красной армии одержали победу в Барнау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сле всех этих событий город находился в весьма плачевном состоянии. К не до конца ещё залеченным ранам прибавилась разруха революции и гражданской вой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 город восстанавливался. Реконструировались предприятия, строились новые. К 1926 году народное хозяйство достигло довоенного уровня. В 1925 году зарплата была поднята в среднем на 18%. Активно велось строитель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Задач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1 и 2 уров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колько было построено жилых домов для рабочих в 1925 году, если известно, что при попытке расселить в них число рабочих, равное году, в котором происходит дело, в каждый дом поселилось бы по 96 человек. А в 25% домов (для  1 уровня - в ¼ всех домов) ещё по одному сверху т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4000" y="7527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28 году население города составляет 76107 человек. Шёл подъём и развитие Барна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началом Великой Отечественной войны многие наши земляки ушли на фронт. Барнаул война затронула ничуть не меньше, чем всю страну, практически не было семей, в которых кто–то из родных не сражался бы на фронтах нашей Родины. На Алтае была сформирована 42 отдельная стрелковая бригада под командованием полковника Матвея Степановича Батракова. Почти все её бойцы полегли в борьбе за Сталинград. Так же на Алтае формировалась 5 гвардейская стрелковая дивизия. И во многих других частях Советской Армии воевали барнаульцы, покрыв себя неувядающей славой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те, кто остались в городе, который являлся глубоким тылом, не менее героически сражались за победу у станков заводов, эвакуированных в Барнау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ее 300жителей Алтайского края удостоены звания Героя Советского Союза(из них более 30 – барнаульцы). После окончания войны тяжёлая задача восстановления страны легла всё на тех же людей. К тому же с войны вернулись далеко не все. Но Барнаул оправился от этого. Активно ведётся строительство и развит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за другим вступают в строй кинотеатры, здания институтов. Город озеленяется. Растёт и численность населения. В 1981 году в городе проживает 601,6 тысяч человек. Город – крупный индустриальный центр. Но существуют и проблемы, как и в любом городе России. К примеру, неблагополучная правовая обстанов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Задач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1 и 2 уров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колько человек были привлечены к административной ответственности за правонарушения, выявленные в ходе операции «Безнадзорность», проведенной в октябре 1999 года в Барнауле сотрудниками милиции, если известно, что это трехзначное число, цифры которого связаны между собой так: первая плюс третья равны второй, удвоенная третья равна второй и первая, умноженная на себя, равна сумме третьей и второй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">
            <a:hlinkClick r:id="rId2"/>
          </p:cNvPr>
          <p:cNvSpPr/>
          <p:nvPr/>
        </p:nvSpPr>
        <p:spPr>
          <a:xfrm>
            <a:off x="2771640" y="5157720"/>
            <a:ext cx="4249800" cy="792360"/>
          </a:xfrm>
          <a:custGeom>
            <a:avLst/>
            <a:gdLst>
              <a:gd name="textAreaLeft" fmla="*/ 51120 w 4249800"/>
              <a:gd name="textAreaRight" fmla="*/ 4198680 w 42498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5808" h="21600">
                <a:moveTo>
                  <a:pt x="0" y="0"/>
                </a:moveTo>
                <a:lnTo>
                  <a:pt x="115808" y="0"/>
                </a:lnTo>
                <a:lnTo>
                  <a:pt x="115808" y="21600"/>
                </a:lnTo>
                <a:lnTo>
                  <a:pt x="0" y="21600"/>
                </a:lnTo>
                <a:close/>
              </a:path>
              <a:path fill="lightenLess" w="115808" h="21600">
                <a:moveTo>
                  <a:pt x="0" y="0"/>
                </a:moveTo>
                <a:lnTo>
                  <a:pt x="115808" y="0"/>
                </a:lnTo>
                <a:lnTo>
                  <a:pt x="114408" y="1400"/>
                </a:lnTo>
                <a:lnTo>
                  <a:pt x="1400" y="1400"/>
                </a:lnTo>
                <a:close/>
              </a:path>
              <a:path fill="darken" w="115808" h="21600">
                <a:moveTo>
                  <a:pt x="115808" y="0"/>
                </a:moveTo>
                <a:lnTo>
                  <a:pt x="115808" y="21600"/>
                </a:lnTo>
                <a:lnTo>
                  <a:pt x="114408" y="20200"/>
                </a:lnTo>
                <a:lnTo>
                  <a:pt x="114408" y="1400"/>
                </a:lnTo>
                <a:close/>
              </a:path>
              <a:path fill="darkenLess" w="115808" h="21600">
                <a:moveTo>
                  <a:pt x="1158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4408" y="20200"/>
                </a:lnTo>
                <a:close/>
              </a:path>
              <a:path fill="lighten" w="1158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808" h="21600">
                <a:moveTo>
                  <a:pt x="50898" y="10800"/>
                </a:moveTo>
                <a:lnTo>
                  <a:pt x="64911" y="3794"/>
                </a:lnTo>
                <a:lnTo>
                  <a:pt x="64911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Задач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 1748 году из Тобольска в Барнаул добровольно переселилось 80 человек – цеховых и посадских жителей. Найдите количество тех и других, если известно, что посадских было на 66 человек больш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рнаул быстро вставал на ноги. Уже в середине 18-го века в посёлке насчитывалось несколько сотен домов. По подсчётам местных статистиков, Барнаул в те годы превосходил по численности населения любой город Московской губернии (конечно, кроме Москвы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747 году, после смерти Акинфия Демидова, Барнаульский завод  перешёл под ведение императорского кабинета. В те годы Барнаул представлял собой крепость. Ещё А. Демидов указывал на необходимость охраны поселения от всевозможных кочевых племён,  поэтому завод имел свой небольшой гарнизон, оружие и даже пушки. А в 1756 году Барнаульский гарнизон был значительно укреплён. Сюда было привезено 600 военнослужащ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Задач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?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1 урове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колько из 600 военнослужащих было драгун, если число их равно было следующему члену данной последователь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2,5; 4,5; 9; 11; 22; 24; 48; 50;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2 урове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колько среди 600 военнослужащих было казаков, если их было меньше половины, но больше четверти, а если бы их число увеличилось в 2 раза, то составило бы 75% всех военнослужащих, присланных на Барнаульский зав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___</a:t>
            </a:r>
            <a:br>
              <a:rPr sz="2400"/>
            </a:b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?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исло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bc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– количество купцов и посадских людей, число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ab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– количество цеховых, а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с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его в 1763 году при Барнаульском заводе было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ac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еловек. Сколько было цеховых жителей, если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= 6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= 2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– 2 и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онц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ека основным населением Барнаула являлись работные люди и приписные крестьяне. Работные люди были мастеровыми на заводах. Их насильственно набирали из крестьян. Работные люди принимали присягу и целиком подчинялись воинскому уста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находились в очень тяжёлом положении. Их рабочий день длился 12 часов, а срок службы был вовсе не ограничен. Другая категория – приписные крестьяне – выполняли лишь вспомогательные работы: рубка дров, подвоз угля, починка плотины и т.д. По царскому манифесту от 1779 года период их работы определялся с 15 февраля по 20 апре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ествовала группа людей, занимающих промежуточное положение между первой и второй, - урочники (урок – объём дневной работы). Они служили при заводе только часть года и выполняли работу, сходную с той, что делали приписные крестьяне. В это время они подчинялись тому же воинскому уставу, что и мастеровые. Но, выполнив урок, они отправлялись в свои деревни. Горные начальники фактически обладали всей полнотой власти, руководствуясь не столько законом, сколько своей прихотью. Поэтому условия работы на заводах были крайне тяжёлыми. У рабочих не было никаких прав. К ним могло быть применено физическое наказание за малейшее неповинов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Задач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1 урове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колько человек проживало в Барнауле в 1840 году, если было 5282 мужчины, а женщин на 1108 меньш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2 урове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Решив задачу 1 уровня, найдите, сколько процентов от всего населения Барнаула в 1840 году составляло женское насел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 результатам переписи 1825 года в Барнауле проживали 264 человека дворян и чиновников, а 46 человек были представителями духовенств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5:11:57Z</dcterms:created>
  <dc:creator>User</dc:creator>
  <dc:description/>
  <dc:language>en-US</dc:language>
  <cp:lastModifiedBy>User</cp:lastModifiedBy>
  <dcterms:modified xsi:type="dcterms:W3CDTF">2008-12-22T09:46:42Z</dcterms:modified>
  <cp:revision>24</cp:revision>
  <dc:subject/>
  <dc:title>Населе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